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D61C7-9AE1-4665-914D-0CA98BD0E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A0299-601E-4F65-AE37-992493E01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8B349-B9E1-4ECF-B235-F74CB3FEA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55B1E-419F-41F9-8B91-BE20D449D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90EAF-02BB-4D45-8996-96BFBD99D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C8074-59F8-4025-8200-523F22A62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0E6E1-EF93-40AF-9F8C-E8E2760DC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51A68-8FF9-4C44-B941-296BE405E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E97C6-9505-46AD-983C-0FC78EFEA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114F0-C0C0-4D46-B5D4-BEE1FA188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623AE-C60A-4E0B-A2A2-A3787131B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BBB14-6870-4E79-8E25-C769A4931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C05E9-132B-4E54-8638-78D8709F2A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images6.cafepress.com/product/75432506v12_350x350_Front.jpg&amp;imgrefurl=http://bumperstickers.cafepress.com/item/confederate-states-of-america-csa-oval-sticker/75432506&amp;usg=__SRf_1CELdgh5ZpOPJWVU3cSRFkA=&amp;h=350&amp;w=350&amp;sz=19&amp;hl=en&amp;start=278&amp;tbnid=g-cqWvaBc1YtaM:&amp;tbnh=120&amp;tbnw=120&amp;prev=/images%3Fq%3Drebel%2Bflag%26gbv%3D2%26ndsp%3D20%26hl%3Den%26safe%3Dactive%26sa%3DN%26start%3D260"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redneckengineering.org/images/rebel_flag.jpg&amp;imgrefurl=http://redneckengineering.org/&amp;usg=__sii762p5mGgVfRKBSct8-OfJANA=&amp;h=399&amp;w=640&amp;sz=40&amp;hl=en&amp;start=279&amp;tbnid=Xhc19DpGhKvUDM:&amp;tbnh=85&amp;tbnw=137&amp;prev=/images%3Fq%3Drebel%2Bflag%26gbv%3D2%26ndsp%3D20%26hl%3Den%26safe%3Dactive%26sa%3DN%26start%3D260"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a:hlinkClick r:id="rId1"/>
          </p:cNvPr>
          <p:cNvPicPr/>
          <p:nvPr/>
        </p:nvPicPr>
        <p:blipFill>
          <a:blip r:embed="rId2"/>
          <a:stretch/>
        </p:blipFill>
        <p:spPr>
          <a:xfrm>
            <a:off x="0" y="0"/>
            <a:ext cx="9144000" cy="6858000"/>
          </a:xfrm>
          <a:prstGeom prst="rect">
            <a:avLst/>
          </a:prstGeom>
          <a:ln w="0">
            <a:noFill/>
          </a:ln>
        </p:spPr>
      </p:pic>
      <p:sp>
        <p:nvSpPr>
          <p:cNvPr id="42" name=""/>
          <p:cNvSpPr/>
          <p:nvPr/>
        </p:nvSpPr>
        <p:spPr>
          <a:xfrm>
            <a:off x="1066680" y="228600"/>
            <a:ext cx="685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1752480" y="304920"/>
            <a:ext cx="6248520" cy="968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ke Singleton</a:t>
            </a:r>
            <a:r>
              <a:rPr b="0" lang="en-US" sz="1800" spc="-1" strike="noStrike">
                <a:solidFill>
                  <a:srgbClr val="000000"/>
                </a:solidFill>
                <a:latin typeface="Arial"/>
              </a:rPr>
              <a:t>      </a:t>
            </a:r>
            <a:r>
              <a:rPr b="0" lang="en-US" sz="2400" spc="-1" strike="noStrike">
                <a:solidFill>
                  <a:srgbClr val="000000"/>
                </a:solidFill>
                <a:latin typeface="Forte"/>
              </a:rPr>
              <a:t>Weapons</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ith Hort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1066680" y="38088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04920" y="990720"/>
            <a:ext cx="838188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32525"/>
                </a:solidFill>
                <a:latin typeface="Arial"/>
              </a:rPr>
              <a:t>Over 11,000 rifles were purchased by the government, there were a number of units like the fifth and the 151</a:t>
            </a:r>
            <a:r>
              <a:rPr b="1" lang="en-US" sz="2400" spc="-1" strike="noStrike" baseline="30000">
                <a:solidFill>
                  <a:srgbClr val="932525"/>
                </a:solidFill>
                <a:latin typeface="Arial"/>
              </a:rPr>
              <a:t>st</a:t>
            </a:r>
            <a:r>
              <a:rPr b="1" lang="en-US" sz="2400" spc="-1" strike="noStrike">
                <a:solidFill>
                  <a:srgbClr val="932525"/>
                </a:solidFill>
                <a:latin typeface="Arial"/>
              </a:rPr>
              <a:t>. New York had companies of skirmishers armed with them. Many were issued to general Winfield Scott Hancock's first veteran corps in the conflict’s closing month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32525"/>
                </a:solidFill>
                <a:latin typeface="Arial"/>
              </a:rPr>
              <a:t>We need to remember the civil war because the civil war was the birth war of the United States of Amer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p:nvPr>
        </p:nvSpPr>
        <p:spPr>
          <a:xfrm>
            <a:off x="533520" y="99072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32525"/>
                </a:solidFill>
                <a:latin typeface="Arial"/>
              </a:rPr>
              <a:t>http://www.nps.go/archive/gett/solderlife/webguns.ht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32525"/>
                </a:solidFill>
                <a:latin typeface="Arial"/>
              </a:rPr>
              <a:t>http://www.civolwarhome.com/sharps.ht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32525"/>
                </a:solidFill>
                <a:latin typeface="Arial"/>
              </a:rPr>
              <a:t>http://165.29.91.7/classes/humanities/amstud/97-98/weapons/thesis.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a:hlinkClick r:id="rId1"/>
          </p:cNvPr>
          <p:cNvPicPr/>
          <p:nvPr/>
        </p:nvPicPr>
        <p:blipFill>
          <a:blip r:embed="rId2"/>
          <a:stretch/>
        </p:blipFill>
        <p:spPr>
          <a:xfrm>
            <a:off x="0" y="0"/>
            <a:ext cx="9144000" cy="6858000"/>
          </a:xfrm>
          <a:prstGeom prst="rect">
            <a:avLst/>
          </a:prstGeom>
          <a:ln w="0">
            <a:noFill/>
          </a:ln>
        </p:spPr>
      </p:pic>
      <p:sp>
        <p:nvSpPr>
          <p:cNvPr id="45" name=""/>
          <p:cNvSpPr/>
          <p:nvPr/>
        </p:nvSpPr>
        <p:spPr>
          <a:xfrm>
            <a:off x="1752480" y="228600"/>
            <a:ext cx="571500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47e"/>
                </a:solidFill>
                <a:latin typeface="Arial"/>
              </a:rPr>
              <a:t> </a:t>
            </a:r>
            <a:r>
              <a:rPr b="1" lang="en-US" sz="2400" spc="-1" strike="noStrike">
                <a:solidFill>
                  <a:srgbClr val="6a047e"/>
                </a:solidFill>
                <a:latin typeface="Arial"/>
              </a:rPr>
              <a:t>the weapons that were used in the civil war are ver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047e"/>
                </a:solidFill>
                <a:latin typeface="Arial"/>
              </a:rPr>
              <a:t>different. They come different sizes and shapes. Ther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047e"/>
                </a:solidFill>
                <a:latin typeface="Arial"/>
              </a:rPr>
              <a:t>are many types like the powerful Gatling gun to 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a047e"/>
                </a:solidFill>
                <a:latin typeface="Arial"/>
              </a:rPr>
              <a:t>tank in that period of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See full size image"/>
          <p:cNvPicPr/>
          <p:nvPr/>
        </p:nvPicPr>
        <p:blipFill>
          <a:blip r:embed="rId1"/>
          <a:stretch/>
        </p:blipFill>
        <p:spPr>
          <a:xfrm>
            <a:off x="0" y="0"/>
            <a:ext cx="9144000" cy="6858000"/>
          </a:xfrm>
          <a:prstGeom prst="rect">
            <a:avLst/>
          </a:prstGeom>
          <a:ln w="0">
            <a:noFill/>
          </a:ln>
        </p:spPr>
      </p:pic>
      <p:sp>
        <p:nvSpPr>
          <p:cNvPr id="47" name=""/>
          <p:cNvSpPr/>
          <p:nvPr/>
        </p:nvSpPr>
        <p:spPr>
          <a:xfrm>
            <a:off x="1219320" y="838080"/>
            <a:ext cx="68580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ical and economical factors were not the only reasons for the lack of weapons. Bad decisions made by the head of the ordnance department, James Wolfe Ripley, held back the advancement of the Union’s arsenal. He received much criticism, being accused of having hostility toward new innovations, particularly to breech loading weapons.</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1600200" y="914400"/>
            <a:ext cx="5638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1523880" y="685800"/>
            <a:ext cx="5639040" cy="4572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447920" y="533520"/>
            <a:ext cx="624816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32525"/>
                </a:solidFill>
                <a:latin typeface="Arial"/>
              </a:rPr>
              <a:t>The small arms in the civil war were used if another person tries to charge at them and there rifle is being reloade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32525"/>
                </a:solidFill>
                <a:latin typeface="Arial"/>
              </a:rPr>
              <a:t>Some of the small arms consist of the seven shot Spencer and the twenty shot Henr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32525"/>
                </a:solidFill>
                <a:latin typeface="Arial"/>
              </a:rPr>
              <a:t>There are others like the .58 or the .577 carbine rifl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32525"/>
                </a:solidFill>
                <a:latin typeface="Arial"/>
              </a:rPr>
              <a:t>There are many revolvers like the Allen, the Remington, the Colt, and the lefkuc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1905120" y="609480"/>
            <a:ext cx="51814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32525"/>
                </a:solidFill>
                <a:latin typeface="Arial"/>
              </a:rPr>
              <a:t>The rifles that they used come in various types and sizes the all cost about 12.00 dollars a gu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32525"/>
                </a:solidFill>
                <a:latin typeface="Arial"/>
              </a:rPr>
              <a:t>There is the single shot muzzle loader. The .54 cal,  the .44 cal, .52 cal.</a:t>
            </a:r>
            <a:r>
              <a:rPr b="0" lang="en-US" sz="1800" spc="-1" strike="noStrike">
                <a:solidFill>
                  <a:srgbClr val="932525"/>
                </a:solidFill>
                <a:latin typeface="Arial"/>
              </a:rPr>
              <a:t> </a:t>
            </a:r>
            <a:r>
              <a:rPr b="0" lang="en-US" sz="2400" spc="-1" strike="noStrike">
                <a:solidFill>
                  <a:srgbClr val="932525"/>
                </a:solidFill>
                <a:latin typeface="Arial"/>
              </a:rPr>
              <a:t>The .36c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1905120" y="762120"/>
            <a:ext cx="49528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were many imported weapons that had came from places like France they  were the guns that were pin fire and they are the .45 cal and the 5 shot “Kerr” revolvers. “Kerr” shot 9 .45 cal bullets in addition to the .63 cal shot gun char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7010280"/>
          </a:xfrm>
          <a:prstGeom prst="rect">
            <a:avLst/>
          </a:prstGeom>
          <a:ln w="0">
            <a:noFill/>
          </a:ln>
        </p:spPr>
      </p:pic>
      <p:sp>
        <p:nvSpPr>
          <p:cNvPr id="57" name=""/>
          <p:cNvSpPr/>
          <p:nvPr/>
        </p:nvSpPr>
        <p:spPr>
          <a:xfrm>
            <a:off x="2438280" y="1371600"/>
            <a:ext cx="44960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onfederates made there own revolvers and there was a problem with the materials that they had, steel was very had to get and brass and iron were often substituted</a:t>
            </a:r>
            <a:r>
              <a:rPr b="0" lang="en-US"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2286000" y="838080"/>
            <a:ext cx="4572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successful confederate gun smith was the firm of Griswold and Gunnison. They produced nearly 3600 pistols between the dates of July of 1862 and November of 1864 in GriswoldVille near Macon. the gun was the .26 cal brass framed copies of the colt nav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676520" y="0"/>
            <a:ext cx="5867280" cy="2438280"/>
          </a:xfrm>
          <a:prstGeom prst="rect">
            <a:avLst/>
          </a:prstGeom>
          <a:ln w="0">
            <a:noFill/>
          </a:ln>
        </p:spPr>
      </p:pic>
      <p:sp>
        <p:nvSpPr>
          <p:cNvPr id="61" name=""/>
          <p:cNvSpPr/>
          <p:nvPr/>
        </p:nvSpPr>
        <p:spPr>
          <a:xfrm>
            <a:off x="1828800" y="2362320"/>
            <a:ext cx="6095880" cy="2654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harps, the sharps is the first type of sniper rifles made there were many others produced in that time but the sharps was the first sniper rifle to be used. The snipers had to shoot a piece of string that was 50 inches from a distance of 100 yard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6:06:00Z</dcterms:created>
  <dc:creator>michaelssingleton</dc:creator>
  <dc:description/>
  <dc:language>en-US</dc:language>
  <cp:lastModifiedBy>michaelssingleton</cp:lastModifiedBy>
  <dcterms:modified xsi:type="dcterms:W3CDTF">2009-04-01T16:00:10Z</dcterms:modified>
  <cp:revision>24</cp:revision>
  <dc:subject/>
  <dc:title>Slide 1</dc:title>
</cp:coreProperties>
</file>